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50F-448D-45A4-A434-67BC70D5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FBE-9DD7-4914-8F4C-9AC172C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C2B-2BDE-4659-BFAC-28A6E938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B30-138C-4A64-8788-9C900F8A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631B-C775-4A4A-9CDC-6520FD9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F64-805E-44AF-ABBF-1F4ECA39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9666-799A-4524-9912-8142618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D89-D7B8-452A-B7C7-0C0F5C1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2C0-754F-4206-AE92-686EDB9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BFA9-10CF-48C3-98CB-44D5B3F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9428-FACF-402B-AA10-4DA2024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2BF-9FD6-4BDE-B28F-1087C0A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8D1-BA14-46CF-A9E4-CB53131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9DBA-CD8D-49B2-96FF-7D90A7A7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25FD-272E-4DDA-AF62-D9CF42B3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3719-358A-4E8B-8740-E54A82F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776-8199-43C5-9F66-ADE70056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44D-C4D6-453D-B3C7-3A0113F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C79-B0BD-4F7F-9B3D-DCAD6AAB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134-E4B4-4A63-B010-A0856586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555-499F-4EFC-B7CF-49DA337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82C-91C4-4919-887F-11D7891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756-CA0F-4F45-8DCC-E5A3E17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191-B77A-48EA-AD73-CBB0557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7FF-0A84-4F18-80F0-8A19B83838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A198-9A37-4FDC-B2FA-374352FB68F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50.WAV" TargetMode="External"/><Relationship Id="rId2" Type="http://schemas.microsoft.com/office/2007/relationships/media" Target="file:///tmp/home/.config/libreoffice/4/user/gallery/~PP135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8.WAV" TargetMode="External"/><Relationship Id="rId2" Type="http://schemas.microsoft.com/office/2007/relationships/media" Target="file:///tmp/home/.config/libreoffice/4/user/gallery/~PP5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0.WAV" TargetMode="External"/><Relationship Id="rId2" Type="http://schemas.microsoft.com/office/2007/relationships/media" Target="file:///tmp/home/.config/libreoffice/4/user/gallery/~PP123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29.WAV" TargetMode="External"/><Relationship Id="rId2" Type="http://schemas.microsoft.com/office/2007/relationships/media" Target="file:///tmp/home/.config/libreoffice/4/user/gallery/~PP72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fa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like some tea, grandp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ndpa, would you like some te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gar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also like a piece of cak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0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fa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like some tea, grandp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What?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ndpa, would you like some te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Yes, please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gar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No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also like a piece of cak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Yes, I’d love to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5:37:15Z</dcterms:created>
  <dc:creator> </dc:creator>
  <dc:description/>
  <dc:language>en-US</dc:language>
  <cp:lastModifiedBy> </cp:lastModifiedBy>
  <dcterms:modified xsi:type="dcterms:W3CDTF">2006-03-02T16:32:59Z</dcterms:modified>
  <cp:revision>3</cp:revision>
  <dc:subject/>
  <dc:title>Teaching Pronunciation</dc:title>
</cp:coreProperties>
</file>